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AAE-6F8C-4B9B-82BA-EE5D7006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3C3-4CA9-4F47-875E-E0C51BF4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8E83-1A6E-478B-A8AC-47AC13D4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DDC2-D6B5-4E3C-8D37-C7668670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449-DB46-4733-97EF-4978D592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3DC-11CE-4DDC-9091-8EE1035D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FBF-DAF5-46A1-A9CB-6D0C9675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44E-45EC-4E3F-8BDB-4AD6B745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596-1C95-4353-AC46-CDC1CA1B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0F5-4843-4FE6-BCCC-28BAB1D4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3EB5-E7A8-44BC-A025-421E0860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E14-F94C-4563-8C29-BA1E702E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242E-93A0-452F-9223-5488E0D48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65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000000"/>
                </a:solidFill>
                <a:latin typeface="Arial"/>
              </a:rPr>
              <a:t>İlginççç…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 damlası ve dalga yansıması görünümünde masa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kı yapabilen dijital fotoğraf makines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1228680"/>
            <a:ext cx="799308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Şeffaf bilardo masas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lik ve süzge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03280" y="1341360"/>
            <a:ext cx="612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Şeffaf sandal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547640"/>
            <a:ext cx="8424720" cy="49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ş fırçası temizleyic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99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knolojiye ayak uyduran bu çakı mp3 çalar özelliğine sa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Şaffaf görünümlü müzik sistem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528920"/>
            <a:ext cx="84247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Şarj edilebilir cep sobas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1781280"/>
            <a:ext cx="820908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at şeklinde telef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632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de kayak keyfi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713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ni eğlence parmak oyunlar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34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hçe ışıklandırma sistem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53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üt kutusu görünümde hoparlö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blosuz cep klavye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9640" y="1595520"/>
            <a:ext cx="813600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l görünümlü uzaktan kum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562040"/>
            <a:ext cx="82803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llanım fonksiyonu geliştirilmiş matka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dek şarj cihaz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1298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579640" y="263664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tlanılabilir bisik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4679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on enerjisiyle çalışan sa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.KADİR AKBA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KNOLOJİ VE TASARIM ÖĞRETMEN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k değiştirebilen masa örtüs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1509840"/>
            <a:ext cx="842472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ya ve paslanmaya dayanıklı cep telefon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Para görünümünde flash d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576440"/>
            <a:ext cx="777708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meklerin soğumasını engelleyen bu tabaklarda yumurta dahi pişirebilirsini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353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diven ve ayakkabı kurutuc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1047600"/>
            <a:ext cx="648036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kamları akrep ve yelkovan üzerinde gösteren sa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533600"/>
            <a:ext cx="799128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İç tarafına gizlenmiş özel ekranı sayesinde dokunmatik olarak kullanılabilen ağaç rady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64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9:58:29Z</dcterms:created>
  <dc:creator>dilan</dc:creator>
  <dc:description/>
  <dc:language>en-US</dc:language>
  <cp:lastModifiedBy>dilan</cp:lastModifiedBy>
  <dcterms:modified xsi:type="dcterms:W3CDTF">2009-02-12T20:23:42Z</dcterms:modified>
  <cp:revision>23</cp:revision>
  <dc:subject/>
  <dc:title>Slayt 1</dc:title>
</cp:coreProperties>
</file>